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wmf" ContentType="image/x-wmf"/>
  <Override PartName="/ppt/media/image9.wmf" ContentType="image/x-wmf"/>
  <Override PartName="/ppt/media/image2.jpeg" ContentType="image/jpeg"/>
  <Override PartName="/ppt/media/image3.jpeg" ContentType="image/jpeg"/>
  <Override PartName="/ppt/media/image6.wmf" ContentType="image/x-wmf"/>
  <Override PartName="/ppt/media/image11.wmf" ContentType="image/x-wmf"/>
  <Override PartName="/ppt/media/image7.png" ContentType="image/png"/>
  <Override PartName="/ppt/media/image1.jpeg" ContentType="image/jpeg"/>
  <Override PartName="/ppt/media/image13.wmf" ContentType="image/x-wmf"/>
  <Override PartName="/ppt/media/image5.png" ContentType="image/png"/>
  <Override PartName="/ppt/media/image8.png" ContentType="image/png"/>
  <Override PartName="/ppt/media/image12.wmf" ContentType="image/x-wmf"/>
  <Override PartName="/ppt/media/image4.png" ContentType="image/png"/>
  <Override PartName="/ppt/media/image10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B1E7-69C7-4F0A-8598-39AA6E5E0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0423-0AB3-4EC0-9385-B6A66CADF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DC29-13A5-41CD-B898-0065AEC75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68DC-E020-4E47-B186-674C48B99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DBF6-B1E6-44F5-A2EF-1D1DD627E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BBC0-51EA-4CCF-91D3-05FBBF49A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F46B-6D78-4742-B147-047008726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2272-70FF-4BE6-BF73-B2B33AAA7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1011-8E1E-4F63-A6ED-BC3DEDC5E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C5CA-1B02-453F-A06C-C0412C229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9F63-B4C1-4AF5-9A96-B6662314F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ADFA-A553-4183-B5A5-3E31E75DF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B4DDD-7819-4D80-8554-C28A26014C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wmf"/><Relationship Id="rId3" Type="http://schemas.openxmlformats.org/officeDocument/2006/relationships/image" Target="../media/image4.png"/><Relationship Id="rId4" Type="http://schemas.openxmlformats.org/officeDocument/2006/relationships/image" Target="../media/image10.wmf"/><Relationship Id="rId5" Type="http://schemas.openxmlformats.org/officeDocument/2006/relationships/image" Target="../media/image1.jpeg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13.wmf"/><Relationship Id="rId6" Type="http://schemas.openxmlformats.org/officeDocument/2006/relationships/image" Target="../media/image4.png"/><Relationship Id="rId7" Type="http://schemas.openxmlformats.org/officeDocument/2006/relationships/image" Target="../media/image14.wmf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Me llamo _________ Clase 6nh (601)</a:t>
            </a:r>
            <a:br>
              <a:rPr sz="3600"/>
            </a:b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La fecha es el 7 de enero del 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Propósito # 24: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¿Cómo son tus amig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pia y respon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Dónde viv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Tienes una familia grande o pequeñ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uántos años tien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Y tu mejor amigo, ¿Cuántos años tie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Tienen Uds. una mascot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2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complet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istorieta 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R24 (1-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0" y="2101680"/>
          <a:ext cx="9144000" cy="4375080"/>
        </p:xfrm>
        <a:graphic>
          <a:graphicData uri="http://schemas.openxmlformats.org/drawingml/2006/table">
            <a:tbl>
              <a:tblPr/>
              <a:tblGrid>
                <a:gridCol w="1600200"/>
                <a:gridCol w="1447920"/>
                <a:gridCol w="1600200"/>
                <a:gridCol w="1523880"/>
                <a:gridCol w="1371600"/>
                <a:gridCol w="1600200"/>
              </a:tblGrid>
              <a:tr h="64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Beb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Com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Abr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Viv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Ten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 ell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os ell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d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76320" y="1187280"/>
            <a:ext cx="830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Conjuga los verbos en el Presen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Los adjetivos posesivos</a:t>
            </a:r>
            <a:br>
              <a:rPr sz="44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possesive adjectiv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7631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ossessive adjec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ells who owns or possess something.  The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“Adjetivos posesivos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Spanish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2590920"/>
            <a:ext cx="1676520" cy="1371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3809880"/>
            <a:ext cx="1905120" cy="1386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0" y="5337000"/>
            <a:ext cx="1981080" cy="1444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4114800" y="2666880"/>
            <a:ext cx="2438280" cy="1771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4267080" y="4952880"/>
            <a:ext cx="1905120" cy="13845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296360" y="3200400"/>
            <a:ext cx="7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25320" y="4419720"/>
            <a:ext cx="103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82880" y="5181480"/>
            <a:ext cx="1971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(polit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68000" y="3352680"/>
            <a:ext cx="85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945760" y="5364000"/>
            <a:ext cx="1191240" cy="14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(pol. pl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9200" y="3200400"/>
            <a:ext cx="60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665080" y="3200400"/>
            <a:ext cx="92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/M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88760" y="4449600"/>
            <a:ext cx="6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142440" y="444960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/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45000" y="563868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53760" y="563868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/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781680" y="3048120"/>
            <a:ext cx="192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Nuestro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81680" y="3611520"/>
            <a:ext cx="192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Nuestra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13760" y="5745240"/>
            <a:ext cx="79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922880" y="574524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/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80880" y="4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or ejempl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______ pri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______ gor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______ ami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______ camis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1676160" cy="13716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295280" y="3657600"/>
            <a:ext cx="1905120" cy="1386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786120" y="14778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659040" y="205740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34640" y="361152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667680" y="4191120"/>
            <a:ext cx="90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152280" y="228240"/>
            <a:ext cx="88394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marL="292320" indent="-29232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ossessive adjec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U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only two forms– Singular and Plural. The adjective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n refer to many different peo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2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2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2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2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 lib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_____ cl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2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 zapat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_____ cas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371600" y="2133720"/>
            <a:ext cx="2514600" cy="18334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181480" y="2139840"/>
            <a:ext cx="2438640" cy="17733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753920" y="3992400"/>
            <a:ext cx="70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63560" y="4525920"/>
            <a:ext cx="92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92400" y="3992400"/>
            <a:ext cx="70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02040" y="4525920"/>
            <a:ext cx="92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09480" y="228600"/>
            <a:ext cx="8229600" cy="67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ossessive adjec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Nuest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like any other adjective that ends in –O has 4 form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 cuarto             _______ c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 cuartos           _______ pluma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3353040" cy="24350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800600" y="2133720"/>
            <a:ext cx="3352680" cy="2436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178280" y="4602240"/>
            <a:ext cx="171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Nues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67040" y="5135400"/>
            <a:ext cx="194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Nues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598000" y="4602240"/>
            <a:ext cx="169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Nues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522040" y="5135400"/>
            <a:ext cx="19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Nuest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7617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pia y completa la oración con el </a:t>
            </a:r>
            <a:r>
              <a:rPr b="1" lang="es-ES_tradnl" sz="3200" spc="-1" strike="noStrike">
                <a:solidFill>
                  <a:srgbClr val="333399"/>
                </a:solidFill>
                <a:latin typeface="Arial"/>
              </a:rPr>
              <a:t>Adjetivo Posesivo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rrec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1676160" cy="13716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276720" y="26668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s _______ per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914400" y="3429000"/>
            <a:ext cx="1905120" cy="1386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276720" y="38098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s _______ g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914400" y="4876920"/>
            <a:ext cx="1981080" cy="14446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124080" y="5486400"/>
            <a:ext cx="35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s _______ sombre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6400800" y="1828800"/>
            <a:ext cx="1096920" cy="15238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6400800" y="33526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6629400" y="5029200"/>
            <a:ext cx="1828800" cy="11811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52280" y="76320"/>
            <a:ext cx="8915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Arial"/>
              </a:rPr>
              <a:t>Practic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2362320" cy="17161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505320" y="137160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s ________ ca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477120" y="533520"/>
            <a:ext cx="1530360" cy="16761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990720" y="2362320"/>
            <a:ext cx="2438280" cy="17715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200400" y="304812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s ________ abue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6858000" y="2514600"/>
            <a:ext cx="1370160" cy="14479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1066680" y="4267080"/>
            <a:ext cx="2286000" cy="17528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7010280" y="4495680"/>
            <a:ext cx="1244880" cy="13068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743200" y="510552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n_________cuadern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858000" y="304920"/>
            <a:ext cx="1298520" cy="18111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7315200" y="304920"/>
            <a:ext cx="1298520" cy="18111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533520" y="533520"/>
            <a:ext cx="1981080" cy="14414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457200" y="2286000"/>
            <a:ext cx="2286000" cy="16668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6629400" y="2362320"/>
            <a:ext cx="1841400" cy="14382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533520" y="4343400"/>
            <a:ext cx="2286000" cy="16606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895480" y="12952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n ____ lap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48120" y="32004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n ____ ga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33720" y="502920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n ________ mochil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7"/>
          <a:stretch/>
        </p:blipFill>
        <p:spPr>
          <a:xfrm>
            <a:off x="6324480" y="4114800"/>
            <a:ext cx="1411560" cy="1697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8"/>
          <a:stretch/>
        </p:blipFill>
        <p:spPr>
          <a:xfrm>
            <a:off x="7467480" y="4876920"/>
            <a:ext cx="1411560" cy="16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4T01:05:40Z</dcterms:created>
  <dc:creator>Helen Zumaeta</dc:creator>
  <dc:description/>
  <dc:language>en-US</dc:language>
  <cp:lastModifiedBy>Helen Zumaeta</cp:lastModifiedBy>
  <dcterms:modified xsi:type="dcterms:W3CDTF">2013-01-07T14:43:24Z</dcterms:modified>
  <cp:revision>15</cp:revision>
  <dc:subject/>
  <dc:title>Me llamo _________ Clase 6nh/il La fecha es el 24 de marzo del 2011</dc:title>
</cp:coreProperties>
</file>